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EF39-A92A-4844-A7BD-5661BF51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aluren is a drug that is being tested for use on patients with nonsense mutation-causing genetic disorders such as some types of cystic fibrosis and some types of hemophi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fferent mutations in CFTR gene that cause cystic fibros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42A-D5F5-4F98-AC90-0168861C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686-CB2D-4A49-B21C-32E1B295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227-1732-41BA-8970-38B24683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3E2-7CCC-46A2-9E87-4084A455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A4F-01C3-4955-8303-518550C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941-E21E-40F5-89C7-57FB8562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27C-A648-4EFA-8C36-1B8E5E00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800-41CF-49B8-80EE-DCA41D6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189-337E-43CE-8F2B-4F6A49D1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B78-6B04-40E8-85E1-C0C4E96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993-05DA-422C-843E-B65A22D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08A-30CE-4931-95D5-13FE98A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A56-B50C-41A4-813C-67F56AE88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icharddawkins.net/articles/2669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all mutations are sil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ense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n the alteration of a codon, causing the substitution of an amino acid (e.g., sickle cell an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sense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n the alteration of a codon to a stop codon, causing translation to produce only part of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ense mut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vonapbio.pbworks.com/w/page/9429271/Ch-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4960" y="1981080"/>
            <a:ext cx="753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sense Mut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ptcbio.com/3.1.1_genetic_disorders.asp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81040" y="1981080"/>
            <a:ext cx="618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and Disorder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ancer.gov/cancertopics/understandingcancer/genetesting/page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44640" y="1981080"/>
            <a:ext cx="545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and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rticle about Lenski’s experimen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icharddawkins.net/articles/26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nges in DNA sequence that are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DNA can be spontaneous or induc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taneous mu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caused by errors in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ed mu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aus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agenic ag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UV radiation,  X rays, certain chemica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 changes in a single base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it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as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shif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mutations (such as deletions, insertions) that cause a change in the reading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1480" y="649440"/>
            <a:ext cx="58723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Mut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eversal of a segment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fer of a fragment of DNA to another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sable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ragments of DNA that are constantly being trans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oc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psychology.wikia.com/wiki/Chromosomal_translo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8880" y="1981080"/>
            <a:ext cx="52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ghr.nlm.nih.gov/handbook/illustrations/in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5440" y="1981080"/>
            <a:ext cx="38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no effect (because they do not change amino acids coded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occur in non-coding regions (intr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of genetic code also allows for some mutations to have no effect (i.e.  a point mutation of third base in co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40Z</dcterms:created>
  <dc:creator>rubina khan</dc:creator>
  <dc:description/>
  <dc:language>en-US</dc:language>
  <cp:lastModifiedBy>rubina khan</cp:lastModifiedBy>
  <dcterms:modified xsi:type="dcterms:W3CDTF">2011-05-04T10:13:07Z</dcterms:modified>
  <cp:revision>15</cp:revision>
  <dc:subject/>
  <dc:title>Protein Synthesis</dc:title>
</cp:coreProperties>
</file>